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CDD-EA25-43D2-9692-063AE868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AEB-717E-4D81-A70E-0E2E112E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2C1-69D4-49B5-9C45-9919D294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393-9A68-49B6-A2E9-39933663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37D-2457-450B-8998-4EC60B9B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E51-CD07-41FD-B677-8BCBAC82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071-4297-4D04-A241-53F1609D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3A8-9964-419A-9489-564EF323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361-B00C-4278-9ADC-587B763E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03DA-C81D-4203-9E67-D0FAD313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CDC-119E-4029-A898-F1EC6FCA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625-34E1-4C9B-9A1B-2760B59D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ABB1-B36A-427A-8637-7823D9100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ps Tell A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4386240" y="-8888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4386240" y="-8888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http://www.canadamapxl.com/images/canada-road-map.gif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www.worldatlas.com/webimage/countrys/namerica/canewmapna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map-of-canada.org/canada-map-7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map-of-canada.org/canada-relief-map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globalforestwatch.org/common/canada/map.1.jpg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iti.gov.nt.ca/tourismparks/fmi/i/permafrost_map%5b1%5d.gif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12.statcan.ca/census-recensement/2006/as-sa/97-550/vignettes/img/map-2006-pop-density-canada-sz01-en.gif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craigmarlatt.com/canada/images/images&amp;downloads/map_climate.jpg"/>
          <p:cNvPicPr/>
          <p:nvPr/>
        </p:nvPicPr>
        <p:blipFill>
          <a:blip r:embed="rId1"/>
          <a:stretch/>
        </p:blipFill>
        <p:spPr>
          <a:xfrm>
            <a:off x="0" y="0"/>
            <a:ext cx="902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statcan.gc.ca/pub/16-002-x/2007001/map/Land-cover-map-of-Canada.gif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4:30:25Z</dcterms:created>
  <dc:creator>gilmore</dc:creator>
  <dc:description/>
  <dc:language>en-US</dc:language>
  <cp:lastModifiedBy>gilmore</cp:lastModifiedBy>
  <dcterms:modified xsi:type="dcterms:W3CDTF">2012-06-22T14:33:43Z</dcterms:modified>
  <cp:revision>1</cp:revision>
  <dc:subject/>
  <dc:title>Canada</dc:title>
</cp:coreProperties>
</file>